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947-0DA7-40B0-8340-AA6103B4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407-6150-4112-8676-2C806823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9B2-92D1-4D11-9BC5-36893798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01F-96FF-4A77-9775-50F91E65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511-4C17-4FCE-BC8B-866B186D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A5E-228C-4BFE-8939-0E24C6E3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21A3-827D-4481-A3A5-8B05FBFE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585-64BF-49CF-AFAA-EC2F2A01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98720"/>
            <a:ext cx="82296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F88-20FB-4586-B27A-0EC56018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3E0-DB31-4407-AF95-C1833828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FA23-CE45-4F53-8934-1A08533E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E92-9F45-47DE-8794-144D6632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25425000"/>
            <a:ext cx="289584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F13AC-D815-4CB9-8A46-FE485E58E6C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arallelogram 109"/>
          <p:cNvSpPr/>
          <p:nvPr/>
        </p:nvSpPr>
        <p:spPr>
          <a:xfrm flipV="1" rot="5400000">
            <a:off x="790560" y="-790560"/>
            <a:ext cx="7562880" cy="9144000"/>
          </a:xfrm>
          <a:prstGeom prst="parallelogram">
            <a:avLst>
              <a:gd name="adj" fmla="val 25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arallelogram 111"/>
          <p:cNvSpPr/>
          <p:nvPr/>
        </p:nvSpPr>
        <p:spPr>
          <a:xfrm rot="5400000">
            <a:off x="1925640" y="2387160"/>
            <a:ext cx="5292720" cy="9144000"/>
          </a:xfrm>
          <a:prstGeom prst="parallelogram">
            <a:avLst>
              <a:gd name="adj" fmla="val 25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12"/>
          <p:cNvSpPr/>
          <p:nvPr/>
        </p:nvSpPr>
        <p:spPr>
          <a:xfrm>
            <a:off x="190440" y="5970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TEMA:  FOLCLORE BRASILEIR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98"/>
          <p:cNvSpPr/>
          <p:nvPr/>
        </p:nvSpPr>
        <p:spPr>
          <a:xfrm>
            <a:off x="2103480" y="2724120"/>
            <a:ext cx="646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LÍNGUA PORTUGUE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7º ANO 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99"/>
          <p:cNvSpPr/>
          <p:nvPr/>
        </p:nvSpPr>
        <p:spPr>
          <a:xfrm>
            <a:off x="1440000" y="0"/>
            <a:ext cx="7704000" cy="2419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07"/>
          <p:cNvSpPr/>
          <p:nvPr/>
        </p:nvSpPr>
        <p:spPr>
          <a:xfrm>
            <a:off x="1440000" y="87480"/>
            <a:ext cx="77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DUCAÇÃO HÍBR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.E.EDUARDO BATISTA AMOR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ROGETEC: RAFAEL SANTOS DA CRUZ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RIBAS DO RIO PARDO - 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219"/>
          <p:cNvGrpSpPr/>
          <p:nvPr/>
        </p:nvGrpSpPr>
        <p:grpSpPr>
          <a:xfrm>
            <a:off x="0" y="10891800"/>
            <a:ext cx="9144000" cy="16019640"/>
            <a:chOff x="0" y="10891800"/>
            <a:chExt cx="9144000" cy="16019640"/>
          </a:xfrm>
        </p:grpSpPr>
        <p:sp>
          <p:nvSpPr>
            <p:cNvPr id="48" name="Parallelogram 220"/>
            <p:cNvSpPr/>
            <p:nvPr/>
          </p:nvSpPr>
          <p:spPr>
            <a:xfrm rot="5400000">
              <a:off x="-3437640" y="14329440"/>
              <a:ext cx="16019640" cy="9144000"/>
            </a:xfrm>
            <a:prstGeom prst="parallelogram">
              <a:avLst>
                <a:gd name="adj" fmla="val 870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Oval 223"/>
            <p:cNvSpPr/>
            <p:nvPr/>
          </p:nvSpPr>
          <p:spPr>
            <a:xfrm>
              <a:off x="2070000" y="15611400"/>
              <a:ext cx="1008000" cy="100800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Oval 224"/>
            <p:cNvSpPr/>
            <p:nvPr/>
          </p:nvSpPr>
          <p:spPr>
            <a:xfrm>
              <a:off x="3932280" y="16141680"/>
              <a:ext cx="1164960" cy="116352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Oval 225"/>
            <p:cNvSpPr/>
            <p:nvPr/>
          </p:nvSpPr>
          <p:spPr>
            <a:xfrm>
              <a:off x="6015240" y="15717960"/>
              <a:ext cx="1079280" cy="106668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26"/>
            <p:cNvSpPr/>
            <p:nvPr/>
          </p:nvSpPr>
          <p:spPr>
            <a:xfrm>
              <a:off x="2531880" y="14998680"/>
              <a:ext cx="109440" cy="71892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227"/>
            <p:cNvSpPr/>
            <p:nvPr/>
          </p:nvSpPr>
          <p:spPr>
            <a:xfrm>
              <a:off x="4462560" y="15031800"/>
              <a:ext cx="109440" cy="122688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228"/>
            <p:cNvSpPr/>
            <p:nvPr/>
          </p:nvSpPr>
          <p:spPr>
            <a:xfrm>
              <a:off x="6502320" y="15120720"/>
              <a:ext cx="109440" cy="76968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Box 229"/>
            <p:cNvSpPr/>
            <p:nvPr/>
          </p:nvSpPr>
          <p:spPr>
            <a:xfrm>
              <a:off x="753480" y="17695800"/>
              <a:ext cx="73238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</a:rPr>
                <a:t>PRODUÇÃO DE UMA VÍDEO NARRADO E ILUSTRADO PELOS ALUNOS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86"/>
            <p:cNvSpPr/>
            <p:nvPr/>
          </p:nvSpPr>
          <p:spPr>
            <a:xfrm>
              <a:off x="1960560" y="24065280"/>
              <a:ext cx="571320" cy="87624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81"/>
            <p:cNvSpPr/>
            <p:nvPr/>
          </p:nvSpPr>
          <p:spPr>
            <a:xfrm>
              <a:off x="2792520" y="23738040"/>
              <a:ext cx="571320" cy="9363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76"/>
            <p:cNvSpPr/>
            <p:nvPr/>
          </p:nvSpPr>
          <p:spPr>
            <a:xfrm>
              <a:off x="3646440" y="23877720"/>
              <a:ext cx="571320" cy="103824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71"/>
            <p:cNvSpPr/>
            <p:nvPr/>
          </p:nvSpPr>
          <p:spPr>
            <a:xfrm>
              <a:off x="4525920" y="23589000"/>
              <a:ext cx="571320" cy="124452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61"/>
            <p:cNvSpPr/>
            <p:nvPr/>
          </p:nvSpPr>
          <p:spPr>
            <a:xfrm>
              <a:off x="6326280" y="23033160"/>
              <a:ext cx="571320" cy="21114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56"/>
            <p:cNvSpPr/>
            <p:nvPr/>
          </p:nvSpPr>
          <p:spPr>
            <a:xfrm>
              <a:off x="7170840" y="23612760"/>
              <a:ext cx="571320" cy="73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Parallelogram 294"/>
          <p:cNvSpPr/>
          <p:nvPr/>
        </p:nvSpPr>
        <p:spPr>
          <a:xfrm flipH="1" rot="16200000">
            <a:off x="580320" y="6595200"/>
            <a:ext cx="7983360" cy="9144000"/>
          </a:xfrm>
          <a:prstGeom prst="parallelogram">
            <a:avLst>
              <a:gd name="adj" fmla="val -23419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95"/>
          <p:cNvSpPr/>
          <p:nvPr/>
        </p:nvSpPr>
        <p:spPr>
          <a:xfrm>
            <a:off x="0" y="8128080"/>
            <a:ext cx="7704000" cy="10666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96"/>
          <p:cNvSpPr/>
          <p:nvPr/>
        </p:nvSpPr>
        <p:spPr>
          <a:xfrm>
            <a:off x="246240" y="8377200"/>
            <a:ext cx="732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METODOLOGIA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97"/>
          <p:cNvSpPr/>
          <p:nvPr/>
        </p:nvSpPr>
        <p:spPr>
          <a:xfrm>
            <a:off x="515880" y="11061720"/>
            <a:ext cx="802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SQUISA DE LENDAS BRASILEIRAS NA S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SÃO DA SALA DE AULA EM CINCO GRUP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IR VÍDEOS DE LENDAS NARRA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AÇÃO DE ÁUDIO DAS LENDAS ESCOLHI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USTRAR NARRATIVAS FEITAS PELOS ALUN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298"/>
          <p:cNvSpPr/>
          <p:nvPr/>
        </p:nvSpPr>
        <p:spPr>
          <a:xfrm>
            <a:off x="1096920" y="9499680"/>
            <a:ext cx="1006560" cy="1008000"/>
          </a:xfrm>
          <a:prstGeom prst="ellipse">
            <a:avLst/>
          </a:prstGeom>
          <a:solidFill>
            <a:srgbClr val="1f49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99"/>
          <p:cNvSpPr/>
          <p:nvPr/>
        </p:nvSpPr>
        <p:spPr>
          <a:xfrm>
            <a:off x="2959200" y="9605880"/>
            <a:ext cx="1163520" cy="1163880"/>
          </a:xfrm>
          <a:prstGeom prst="ellipse">
            <a:avLst/>
          </a:prstGeom>
          <a:solidFill>
            <a:srgbClr val="1f49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300"/>
          <p:cNvSpPr/>
          <p:nvPr/>
        </p:nvSpPr>
        <p:spPr>
          <a:xfrm>
            <a:off x="5041800" y="9393120"/>
            <a:ext cx="1079640" cy="1067040"/>
          </a:xfrm>
          <a:prstGeom prst="ellipse">
            <a:avLst/>
          </a:prstGeom>
          <a:solidFill>
            <a:srgbClr val="1f49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01"/>
          <p:cNvSpPr/>
          <p:nvPr/>
        </p:nvSpPr>
        <p:spPr>
          <a:xfrm>
            <a:off x="1557360" y="8885160"/>
            <a:ext cx="111240" cy="720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02"/>
          <p:cNvSpPr/>
          <p:nvPr/>
        </p:nvSpPr>
        <p:spPr>
          <a:xfrm>
            <a:off x="3487680" y="8920080"/>
            <a:ext cx="111240" cy="9223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03"/>
          <p:cNvSpPr/>
          <p:nvPr/>
        </p:nvSpPr>
        <p:spPr>
          <a:xfrm>
            <a:off x="5529240" y="9009000"/>
            <a:ext cx="109440" cy="770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04"/>
          <p:cNvSpPr/>
          <p:nvPr/>
        </p:nvSpPr>
        <p:spPr>
          <a:xfrm>
            <a:off x="0" y="14095440"/>
            <a:ext cx="7705800" cy="1066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05"/>
          <p:cNvSpPr/>
          <p:nvPr/>
        </p:nvSpPr>
        <p:spPr>
          <a:xfrm>
            <a:off x="299880" y="14284440"/>
            <a:ext cx="73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Impact"/>
              </a:rPr>
              <a:t>PRODU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07" descr="HubSpot low-res for light backgrounds.png"/>
          <p:cNvPicPr/>
          <p:nvPr/>
        </p:nvPicPr>
        <p:blipFill>
          <a:blip r:embed="rId1"/>
          <a:stretch/>
        </p:blipFill>
        <p:spPr>
          <a:xfrm>
            <a:off x="190440" y="26838360"/>
            <a:ext cx="1440000" cy="417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04"/>
          <p:cNvSpPr/>
          <p:nvPr/>
        </p:nvSpPr>
        <p:spPr>
          <a:xfrm>
            <a:off x="1438200" y="19086480"/>
            <a:ext cx="7705800" cy="1066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05"/>
          <p:cNvSpPr/>
          <p:nvPr/>
        </p:nvSpPr>
        <p:spPr>
          <a:xfrm>
            <a:off x="1630440" y="19296000"/>
            <a:ext cx="73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Impact"/>
              </a:rPr>
              <a:t>CULMINÂNC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29"/>
          <p:cNvSpPr/>
          <p:nvPr/>
        </p:nvSpPr>
        <p:spPr>
          <a:xfrm>
            <a:off x="299880" y="21016800"/>
            <a:ext cx="8655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Impac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ASSAR O VÍDEO PRODUZIDO PELOS ALUNOS NO FECHAMENTO DO PROJETO FOLCL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Impac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UBLICAÇÃO DOS VÍDEOS NO FACEBOOK DA ESCOLA E NO GRUPO FECHADO DO FACEBOOK DA SA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Impac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UBLICAÇÃO DO VÍDEO DOS ALUNOS NO YOUTUB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19:00Z</dcterms:created>
  <dc:creator>Demond Wong</dc:creator>
  <dc:description/>
  <dc:language>en-US</dc:language>
  <cp:lastModifiedBy>STE EBA</cp:lastModifiedBy>
  <cp:lastPrinted>2015-02-25T21:45:26Z</cp:lastPrinted>
  <dcterms:modified xsi:type="dcterms:W3CDTF">2016-08-31T22:06:15Z</dcterms:modified>
  <cp:revision>261</cp:revision>
  <dc:subject/>
  <dc:title>PowerPoint Presentation</dc:title>
</cp:coreProperties>
</file>